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5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5D5B-ABA3-413E-B945-6C9202BC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8444-7A91-4D3B-9722-C3E80158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4EC3-599C-466C-9951-D68CCDF4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FA50-EC61-45D5-9EA1-43D4994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A302-7DDD-4F41-B558-81F9D0A0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5D5-E2DF-4CC9-A1B2-ADABAB0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8D9A-E12E-49D0-BBFE-94BD7041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C8D0-E6F4-445A-8EA2-C0A8C3B2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CEB5-7610-4242-9D80-3E96190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7D32-1B84-4C0E-9128-4225749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BC02-4FED-4804-92AF-693E623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27F9-08AF-4629-8909-1D8FD5A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2F1-8FD1-4DED-96FE-FF04672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022E-5B09-49D8-AD41-8562C178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EF8-21C2-4038-92A0-62C42035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75BC-03A1-48C0-9154-73D9BAEC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830D-4969-4069-A3B5-E8ED6398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98DB-94ED-42D6-B849-27C078C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10DA-BABD-4C09-A50D-C75C985D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143A-3312-4678-BE82-D548C193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C71C-77B9-4A0C-BB69-27FF707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5214-0955-4C43-B64E-9D1F94E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E6A8-BDBF-413C-99EA-E6E5EC76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E0F2-CCB5-40A5-9938-5C13A16F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979-629C-4E54-815A-DF8EB0788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8FEF-0098-4EC0-8CAB-75D1BCC831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ниципальное казенное образовательное учреждение Гремучинская средняя общеобразовательная школа №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Тема исследовательской работы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Легенды возникнов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нтичных Олимпийских иг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исследовательский рефера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ыполни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                                                          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ник 2 класса                                                     учитель физ. куль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емучинской СОШ № 19                                    Гремучинской СОШ № 19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иняк Богдан                                                          Чалюк О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4572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О, СПОРТ!    ТЫ – МИР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ы делаешь нас сильны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вки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тны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правляешь недоста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наследованные нами от рождени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ы верный неизменный спутник жиз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трана Олимп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дним из замечательных памятников общечеловеческой культуры являются Олимпийские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В этом году Олимпийские игры отметят свое 115-лет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802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ервая леген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положительно после эт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лопс раз в четыре года стал проводить в Олимпии соревнования на колесница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есть своей победы над Энома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ктуальность тем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лимпийское воспитание дает поверить ребенку в свои силы, преодолеть недуги и недостат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Легенда втор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85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фит и Ликург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зобновили Олимпийские игры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о время которых по уставу священного перемирия должны прекращаться всякие вой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188640"/>
            <a:ext cx="70102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Геркулесова каш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Легенда треть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еракл основал иг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Олимпи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честь бога Зевс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сделал их общегречески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Это было в 776 году до н.э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7570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тадион Олимп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solidFill>
            <a:srgbClr val="666462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85440" cy="5616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0102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Награждение победителе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Жизнь Олимпийских иг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68 лет продолжались Олимпийские игр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о в 4 веке нашей эры Олимпия перестала существ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роблема исследов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школьной 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 поселковой библиоте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т литературы о Легендах возникновения Античных Олимпийских иг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езультаты опрос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763640" y="1989000"/>
          <a:ext cx="6867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89000"/>
                    <a:ext cx="6867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Заключени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утешествуя по древней Олимпии  я познакомился с героями, которые возродили Олимпийски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 достигнута, а вот гипотеза опровергну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буду останавливаться на достигнутом. Хочу узнать почему Олимпийские игры прекратили свое существ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лимпийские</a:t>
            </a: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 чемпионы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илон  - победитель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ести антич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лимпийских иг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Легенда про Альтиса и Олимпийский ого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бор пал на Альтиса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торому нужно был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нести огон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 священной гор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ЛИМ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Геркулесова каш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002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еркулес- сын бога Зев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ос слабым, хилым и болезненным мальчик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ыл так хил, что не мог играть с другими детьми. Ему было очень скучно одно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ru-RU" sz="5900" spc="-1" strike="noStrike">
                <a:solidFill>
                  <a:srgbClr val="ccecff"/>
                </a:solidFill>
                <a:latin typeface="Arial"/>
              </a:rPr>
              <a:t>иачварта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 предполагаю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Легенда возникновения Античных Олимпийских игр существу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Источни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своей работе я использовал литератур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алерия Иосифовича Усакова, педагога Красноярского кр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К Олимпийским вершинам с детст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атолия Чайковского «Здравствуй, Олимпиа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етическое исследование истории возникновения Античных Олимпийск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г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8598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учить историю Древнего Олимпийского дви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знать, что такое истинная дружба и мир между людьми и народ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рать данные в моем класс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Знают ли ребята о том, кто возродил Античные Олимпийские игр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Метод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зучение литератур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рос одноклассник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едставление результатов исследования в виде през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06:58:33Z</dcterms:created>
  <dc:creator>Customer</dc:creator>
  <dc:description/>
  <dc:language>en-US</dc:language>
  <cp:lastModifiedBy>Customer</cp:lastModifiedBy>
  <dcterms:modified xsi:type="dcterms:W3CDTF">2013-02-02T05:17:27Z</dcterms:modified>
  <cp:revision>24</cp:revision>
  <dc:subject/>
  <dc:title>Слайд 1</dc:title>
</cp:coreProperties>
</file>