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C91-505B-47C5-95DA-29CFBB69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61A-5CE6-40D5-AE6E-C88CECD2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E5E-B6B9-47CF-B383-1E2F6D92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D69-893F-4E5D-9E6C-14266716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F021-47B1-4988-B809-DCD37B1C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4B84-A0D2-4812-94AA-D9466200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2E3A-C8A8-4BFB-A894-5BB6E1A1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4272-50CD-4FA5-A6DE-87A390D8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3544-38D1-4BC5-BF8E-D614E438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151F-7E86-4D27-9E99-1F8FA1BE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E20D-4491-4700-8B41-AD798DDB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53B-5436-4B5F-BDD2-90D64340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3655-7F96-4E81-832E-36CA0543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EF14-0771-4977-823A-6892708B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DF2E-7BDA-4E8F-947A-ACF2348D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43BC-66EE-407B-91B9-1E690492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7D4F-99AB-47AC-AF36-8385C22F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3B1-5B0E-4667-B621-91E531CC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9BDB-6824-42BE-8E88-EF08E664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C04-1CB9-4BDA-9435-38B210A9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E258-113B-4E53-8427-A14D280A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0DD-F8A7-4E2D-96C4-002061E6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DE6-2083-4119-B6B8-8A7DDFD9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190-3F0D-46C9-B55A-1C3C17A7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609A-7D47-4D4B-B0D6-E66EB3DFF6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04A8-B240-4AA4-B6A8-7A865352A2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764640"/>
            <a:ext cx="81406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1. Как называется с точки зрения ПДД лицо, ведущее по дороге санки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00720" y="2927160"/>
            <a:ext cx="418608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) Пешеход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Б) Водител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В) Дорожный рабочий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0. Можно ли водить группы детей в темное время суток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Д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Да, в сопровождении не менее двух взрослы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Н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1. Как называются лица, передвигающие       в инвалидных колясках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Пассажирам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Водителям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Пешеходам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841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2. Для каких пешеходов устанавливают светофоры, дополненные звуковыми сигналами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Пешеходов-дете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Пешеходов-инвалидо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Пешеходов-слепы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3. Могут ли пешеходы двигаться по проезжей части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Н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Д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В жилой зон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4. Можно ли переходить улицу на дорогах с разделительной полосой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Д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Да, если нет травы и деревье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Н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5. К какой группе дорожных знаков относится знак «Дети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Предупреждающи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Запрещающи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Знаки группы сервис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6. На каких участников дорожного движения распространяется действие транспортного светофора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На водителе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На пешеходо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На водителей и пешеходо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Можно ли переходить дорогу, если на транспортном светофоре постоянно горит мигающий желтый цвет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Н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Д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Да, если с вами идут взрослы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. Можете ли вы перейти дорогу, если одновременно горит желтый и красный сигнал светофора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Д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Да, так как будет включен зеленый сигнал светофор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Н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 Сколько всего цветов и какие используются в светофорах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Четыре (желтый, красный, зеленый, белый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Три (красный, желтый, зеленый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Два (красный, зеленый)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 Являются ли «дорожные рабочие», работающие на дороге, участниками дорожного движения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Н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Д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Да, так как работают на дорога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Как должны двигаться пешеходы, ведущие велосипед за городом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А) По правой  стороне дороги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Б) На встречу движению транспорт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) По ходу движения транспортных средст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7. Являются ли погонщик животных и дорожные рабочие участниками движения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Д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Н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Погонщик является, дорожные рабочие н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8. Какой стороны движения на тротуаре должны придерживаться пешеходы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Лево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Право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Любо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9. Может ли пассажир быть участниками движения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А) Д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Б) Не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В) Нет, так как находиться в транспорт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1:49:21Z</dcterms:created>
  <dc:creator>Customer</dc:creator>
  <dc:description/>
  <dc:language>en-US</dc:language>
  <cp:lastModifiedBy>Customer</cp:lastModifiedBy>
  <dcterms:modified xsi:type="dcterms:W3CDTF">2013-02-25T12:44:10Z</dcterms:modified>
  <cp:revision>3</cp:revision>
  <dc:subject/>
  <dc:title>Как называется с точки зрения ПДД лицо, ведущее по дороге санки?</dc:title>
</cp:coreProperties>
</file>